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10A-17CC-42E0-B774-C880AD7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7A0-0ED8-4E1C-B591-0C21C19C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0FB-3881-4714-846F-D877895C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C2C-F7A2-42CD-849C-DDF2A947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A7A-934E-45C7-9B7D-F02B918D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184-1B42-4FED-ACA4-E119DA5C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F8D-A9DB-438D-B8A1-4FF49A59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972-D314-45D1-B227-790DC96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D5A-B800-4A50-BAD7-93ACF9C7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140-50C8-46B8-8F3C-10B611C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154-3370-4843-AF61-6CA6D3F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270-52DF-40CC-BFCC-34E35FE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D98-FADA-4761-9C2E-698048F9B256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EE9A7E77-06D5-48A7-A39E-40D5CA74C2FD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8461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Minion"/>
              </a:rPr>
              <a:t>EF81 – Production Plan / Operator Approval / EXIT-Stability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OPC-Europe Repor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14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duction Plan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start to be achieved in cw07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26920"/>
            <a:ext cx="8015400" cy="539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637000"/>
            <a:ext cx="36036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Component Delivery Plan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volumes after DS not secur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884160"/>
            <a:ext cx="8456400" cy="484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757840"/>
            <a:ext cx="8277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145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iving example above – already end of Feb we run in component shortage for upcoming production in March/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Tremendous number of parallel approval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8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1st 18 variants have to be approved till cw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Tremendous number of parallel approvals plann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2nd 18 variants have to be approved till cw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IT Stability EF81 significantly better compared to S75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Number of open defects still too high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 ~950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ults from SMS on EXIT Team / SW-Project Team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888240" cy="46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5913360"/>
            <a:ext cx="827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8277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F81 – Main Problem Area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Beside expected Operator defects – main issues are still weaknesses from SXG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988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– Ranking: AS/S3/DS-relevant (~375 defec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prioritized defects are essent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-mail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MS/ SM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rows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RM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cessory support (various car kits, Audio Quality)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 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PM, file transf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Streaming (functionality available, seems to be setting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Clam shell topic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mory leak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4 basically nice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xt Steps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Operational Excellence is required to secure launch in March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981000"/>
            <a:ext cx="8277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clare S3-HW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production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VF-approval phase A in cw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op immediately finger pointing in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utting “own” function on save side doesn’t help the company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place project manager if they cannot perform the last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of Wednesday Feb 15th a TTM-Team will be established under lead of  TPM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which will secure AI-tracking on daily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We can launch EF81 in March if we all focu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2-14T17:44:31Z</dcterms:modified>
  <cp:revision>155</cp:revision>
  <dc:subject/>
  <dc:title>PHE</dc:title>
</cp:coreProperties>
</file>